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18.png" ContentType="image/png"/>
  <Override PartName="/ppt/media/image17.gif" ContentType="image/gif"/>
  <Override PartName="/ppt/media/image15.png" ContentType="image/png"/>
  <Override PartName="/ppt/media/image6.gif" ContentType="image/gif"/>
  <Override PartName="/ppt/media/image11.gif" ContentType="image/gif"/>
  <Override PartName="/ppt/media/image1.png" ContentType="image/png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6.wmf" ContentType="image/x-wmf"/>
  <Override PartName="/ppt/media/image5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7F4-5319-477C-A258-6C0F346E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135-5489-4A7C-8C0D-7C1F441F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7AD-DF4F-40E5-9B27-8B496695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502-2BD7-484B-97D1-1E9F73E9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F68C-0BE1-4E33-BC2C-3437F422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C2D0-13F7-4422-946E-049BB2B8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4B94-7C1A-456A-9749-2B85F742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C1F4-8DEF-45F6-91B1-8301193A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8F1C-F576-4C5E-BE8E-96A7EC8E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7D9B-39CB-4D15-BCC8-1A3705AD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489B-CB2B-4D0A-92AE-91C464B5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453-D2FC-4FB2-9790-A866454D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AFDA-0D0E-4402-94D4-7FB0588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1326-E7E9-462B-9A89-2AF21EE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CC8A-4043-44D7-BCEB-F7DFFB28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25EA-1FC2-4739-B35D-F6963B9C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63DC-DE7D-4167-B3AC-819A32D0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BE2-1F0C-4E92-AF6A-CB4383BE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5E3-B972-4F65-BBDF-5FFA5B3E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27F-8DE7-487D-B410-2F8A16F1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EC5-D37E-45A5-A165-5D6AB237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3A6-14CD-45EF-BA18-26B7BC87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05F-2B03-4472-862B-29D2255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632-C9B1-43D0-A063-EEFBE6D0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0777-8A3F-4A85-B70D-BF389CFB82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0124-EFC3-4583-9D88-613F387764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Pojęcie funkcji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48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8f17"/>
                </a:solidFill>
                <a:latin typeface="Verdana"/>
              </a:rPr>
              <a:t>Lekcja w klasie 1 Liceum Profilowane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8f17"/>
                </a:solidFill>
                <a:latin typeface="Verdana"/>
              </a:rPr>
              <a:t>w Zespole Szkół Mechaniczny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48b6"/>
                </a:solidFill>
                <a:latin typeface="Verdana"/>
              </a:rPr>
              <a:t>wg podręcznika „Matematyka się liczy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zyporządkowanie funkcyjne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2205000"/>
            <a:ext cx="7777080" cy="58140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=                                      y =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2421000"/>
            <a:ext cx="7308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220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08720" y="2349360"/>
            <a:ext cx="35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2492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5084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3357720"/>
            <a:ext cx="2232000" cy="2879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840" y="398772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3141720"/>
            <a:ext cx="3384720" cy="3166920"/>
          </a:xfrm>
          <a:prstGeom prst="ellipse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2205000"/>
            <a:ext cx="647640" cy="576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25920" y="3382920"/>
            <a:ext cx="13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4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0400" y="417348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78800" y="3886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26440" y="5110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21720" y="474984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90080" y="3165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10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98520" y="342900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87320" y="414972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79520" y="3957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23840" y="503856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3716280"/>
            <a:ext cx="432144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4303800" cy="276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740720" y="2205000"/>
            <a:ext cx="647640" cy="57636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920" y="2835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299736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zyporządkowanie funkcyjne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205000"/>
            <a:ext cx="7777080" cy="58140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=                                      y =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2421000"/>
            <a:ext cx="7308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4000" y="220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08720" y="2349360"/>
            <a:ext cx="35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2492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5084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3357720"/>
            <a:ext cx="2232000" cy="2879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55840" y="398772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141720"/>
            <a:ext cx="3384720" cy="3166920"/>
          </a:xfrm>
          <a:prstGeom prst="ellipse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2205000"/>
            <a:ext cx="647640" cy="576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5920" y="3382920"/>
            <a:ext cx="13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4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0400" y="417348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8800" y="3886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6440" y="5110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21720" y="474984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90080" y="3165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10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98520" y="342900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87320" y="414972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79520" y="3957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3840" y="503856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3716280"/>
            <a:ext cx="439272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4303800" cy="276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59280" y="4437000"/>
            <a:ext cx="34574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40720" y="2565360"/>
            <a:ext cx="1403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2205000"/>
            <a:ext cx="649440" cy="581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5080" y="297972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27813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zyporządkowanie funkcyjne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2205000"/>
            <a:ext cx="7777080" cy="58140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=                                       y =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2421000"/>
            <a:ext cx="7308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04000" y="220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2349360"/>
            <a:ext cx="35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2492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5084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3357720"/>
            <a:ext cx="2232000" cy="2879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55840" y="398772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3141720"/>
            <a:ext cx="3384720" cy="3166920"/>
          </a:xfrm>
          <a:prstGeom prst="ellipse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2205000"/>
            <a:ext cx="647640" cy="576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40720" y="2205000"/>
            <a:ext cx="647640" cy="57636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5920" y="3382920"/>
            <a:ext cx="13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4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0400" y="417348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78800" y="3886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26440" y="5110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21720" y="474984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90080" y="3165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10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8520" y="342900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87320" y="414972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79520" y="3957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23840" y="503856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1640" y="3716280"/>
            <a:ext cx="432144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916360" y="1916280"/>
            <a:ext cx="4306680" cy="276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59280" y="4437000"/>
            <a:ext cx="34574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32000" y="5013360"/>
            <a:ext cx="4176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292428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52520" y="2997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zyporządkowanie funkcyjne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2205000"/>
            <a:ext cx="7777080" cy="58140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=                                      y =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421000"/>
            <a:ext cx="7308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04000" y="220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08720" y="2349360"/>
            <a:ext cx="35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92360" y="2492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5084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43640" y="3357720"/>
            <a:ext cx="2232000" cy="2879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55840" y="398772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141720"/>
            <a:ext cx="3384720" cy="3166920"/>
          </a:xfrm>
          <a:prstGeom prst="ellipse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2205000"/>
            <a:ext cx="647640" cy="576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67640" y="2205000"/>
            <a:ext cx="647640" cy="57636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25920" y="3382920"/>
            <a:ext cx="13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4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0400" y="417348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78800" y="3886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26440" y="5110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21720" y="474984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90080" y="3165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10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98520" y="342900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87320" y="414972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79520" y="3957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23840" y="503856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3716280"/>
            <a:ext cx="439272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4303800" cy="276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059280" y="4437000"/>
            <a:ext cx="34574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203640" y="5013360"/>
            <a:ext cx="4105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835280" y="5516280"/>
            <a:ext cx="59054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5080" y="2924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52520" y="2997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zyporządkowanie funkcyjne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2205000"/>
            <a:ext cx="7777080" cy="58140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=                                       y =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2421000"/>
            <a:ext cx="7308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04000" y="220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08720" y="2349360"/>
            <a:ext cx="35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92360" y="2492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16720" y="5084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43640" y="3357720"/>
            <a:ext cx="2232000" cy="2879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55840" y="398772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3141720"/>
            <a:ext cx="3384720" cy="3166920"/>
          </a:xfrm>
          <a:prstGeom prst="ellipse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95640" y="2205000"/>
            <a:ext cx="647640" cy="576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12000" y="2205000"/>
            <a:ext cx="647640" cy="57636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25920" y="3382920"/>
            <a:ext cx="13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4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8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8800" y="3886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6440" y="5110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21720" y="474984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90080" y="3165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10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98520" y="342900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87320" y="414972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79520" y="3957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23840" y="503856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1640" y="3716280"/>
            <a:ext cx="432144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4306680" cy="276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59280" y="4437000"/>
            <a:ext cx="34574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203640" y="5013360"/>
            <a:ext cx="4105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835280" y="5516280"/>
            <a:ext cx="59054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4724280"/>
            <a:ext cx="561672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1080" y="2924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52520" y="2997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zyporządkowanie funkcyjne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2205000"/>
            <a:ext cx="7777080" cy="58140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=                                       y =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2421000"/>
            <a:ext cx="7308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04000" y="220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2349360"/>
            <a:ext cx="35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92360" y="2492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16720" y="5084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43640" y="3357720"/>
            <a:ext cx="2232000" cy="2879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55840" y="398772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9640" y="3141720"/>
            <a:ext cx="3384720" cy="3166920"/>
          </a:xfrm>
          <a:prstGeom prst="ellipse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95640" y="2205000"/>
            <a:ext cx="647640" cy="576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2205000"/>
            <a:ext cx="647640" cy="57636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25920" y="3382920"/>
            <a:ext cx="13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4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18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78800" y="3886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26440" y="5110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21720" y="474984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90080" y="3165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10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98520" y="342900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87320" y="414972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79520" y="3957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23840" y="503856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3716280"/>
            <a:ext cx="432144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4306680" cy="276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59280" y="4437000"/>
            <a:ext cx="34574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203640" y="5013360"/>
            <a:ext cx="4105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35280" y="5516280"/>
            <a:ext cx="59054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47640" y="4724280"/>
            <a:ext cx="561672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40000" y="4653000"/>
            <a:ext cx="525636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91080" y="2924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52520" y="2997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zyporządkowanie funkcyjne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971640" y="2205000"/>
            <a:ext cx="7777080" cy="58140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=                                       y =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19280" y="2421000"/>
            <a:ext cx="7308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04000" y="220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08720" y="2349360"/>
            <a:ext cx="35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2492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16720" y="5084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443640" y="3357720"/>
            <a:ext cx="2232000" cy="2879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55840" y="398772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9640" y="3141720"/>
            <a:ext cx="3384720" cy="3166920"/>
          </a:xfrm>
          <a:prstGeom prst="ellipse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95640" y="2205000"/>
            <a:ext cx="647640" cy="576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85080" y="2205000"/>
            <a:ext cx="647640" cy="57636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25920" y="3382920"/>
            <a:ext cx="13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4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8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78800" y="3886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26440" y="5110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21720" y="474984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90080" y="3165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10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98520" y="342900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87320" y="414972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79520" y="3957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23840" y="503856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3716280"/>
            <a:ext cx="432144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4306680" cy="276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059280" y="4437000"/>
            <a:ext cx="34574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203640" y="5013360"/>
            <a:ext cx="4105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835280" y="5516280"/>
            <a:ext cx="59054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47640" y="4724280"/>
            <a:ext cx="561672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40000" y="4653000"/>
            <a:ext cx="525636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2360" y="3933720"/>
            <a:ext cx="633564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19440" y="2924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52520" y="2997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8f17"/>
                </a:solidFill>
                <a:latin typeface="Verdana"/>
              </a:rPr>
              <a:t>Ważniejsze pojęcia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781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2c80"/>
                </a:solidFill>
                <a:latin typeface="Verdana"/>
              </a:rPr>
              <a:t>Zapamiętaj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348000" y="1773360"/>
          <a:ext cx="5219640" cy="4228920"/>
        </p:xfrm>
        <a:graphic>
          <a:graphicData uri="http://schemas.openxmlformats.org/drawingml/2006/table">
            <a:tbl>
              <a:tblPr/>
              <a:tblGrid>
                <a:gridCol w="2730600"/>
                <a:gridCol w="2489040"/>
              </a:tblGrid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biór argumentów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biór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ośc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um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oś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ziedzi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zeciw-dziedzi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mien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ezależ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mien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ależ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1225440" cy="1711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98f17"/>
                </a:solidFill>
                <a:latin typeface="Verdana"/>
              </a:rPr>
              <a:t>KONTRPRZYKŁA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Rozważmy przyporządkowani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Każdemu człowiekowi przypisujemy jego zawó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2737080" cy="1758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292720" y="3213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4149720"/>
            <a:ext cx="50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e spełnia warunków funkcji, gdy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79640" y="5419800"/>
            <a:ext cx="5274360" cy="113544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98f17"/>
                </a:solidFill>
                <a:latin typeface="Tahoma"/>
              </a:rPr>
              <a:t>1.Nie każdy człowiek posiada zawó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98f17"/>
                </a:solidFill>
                <a:latin typeface="Tahoma"/>
              </a:rPr>
              <a:t>2.Są ludzie, którzy posiadają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98f17"/>
                </a:solidFill>
                <a:latin typeface="Tahoma"/>
              </a:rPr>
              <a:t>          </a:t>
            </a:r>
            <a:r>
              <a:rPr b="1" i="1" lang="en-US" sz="2000" spc="-1" strike="noStrike">
                <a:solidFill>
                  <a:srgbClr val="e98f17"/>
                </a:solidFill>
                <a:latin typeface="Tahoma"/>
              </a:rPr>
              <a:t>kilka zawo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kcja stał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497800" cy="442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ff"/>
                </a:solidFill>
                <a:latin typeface="Verdana"/>
              </a:rPr>
              <a:t>Każdy element zbioru </a:t>
            </a:r>
            <a:r>
              <a:rPr b="1" lang="pl-PL" sz="32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lang="pl-PL" sz="3000" spc="-1" strike="noStrike">
                <a:solidFill>
                  <a:srgbClr val="0000ff"/>
                </a:solidFill>
                <a:latin typeface="Verdana"/>
              </a:rPr>
              <a:t> ma wartość: </a:t>
            </a:r>
            <a:r>
              <a:rPr b="1" lang="pl-PL" sz="3200" spc="-1" strike="noStrike">
                <a:solidFill>
                  <a:srgbClr val="ff0000"/>
                </a:solidFill>
                <a:latin typeface="Verdana"/>
              </a:rPr>
              <a:t>-6</a:t>
            </a:r>
            <a:r>
              <a:rPr b="0" lang="pl-PL" sz="3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ff"/>
                </a:solidFill>
                <a:latin typeface="Verdana"/>
              </a:rPr>
              <a:t>                     </a:t>
            </a:r>
            <a:r>
              <a:rPr b="0" lang="pl-PL" sz="3000" spc="-1" strike="noStrike">
                <a:solidFill>
                  <a:srgbClr val="0000ff"/>
                </a:solidFill>
                <a:latin typeface="Verdana"/>
              </a:rPr>
              <a:t>f(x)= -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1476360" y="2997360"/>
            <a:ext cx="1295280" cy="26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3357720"/>
            <a:ext cx="1943280" cy="2519280"/>
          </a:xfrm>
          <a:prstGeom prst="ellipse">
            <a:avLst/>
          </a:prstGeom>
          <a:solidFill>
            <a:srgbClr val="8395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4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2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92720" y="3284640"/>
            <a:ext cx="1295280" cy="2592360"/>
          </a:xfrm>
          <a:prstGeom prst="ellipse">
            <a:avLst/>
          </a:prstGeom>
          <a:solidFill>
            <a:srgbClr val="2e48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71640" y="321300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46840" y="3213000"/>
            <a:ext cx="11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24000" y="3357720"/>
            <a:ext cx="1008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0000" y="393372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84360" y="3933720"/>
            <a:ext cx="345600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84360" y="4653000"/>
            <a:ext cx="316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4437000"/>
            <a:ext cx="360036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268360" y="4723920"/>
            <a:ext cx="36738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556000" y="4868640"/>
            <a:ext cx="3240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308720" y="69228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132000" y="5661000"/>
            <a:ext cx="2305080" cy="581400"/>
          </a:xfrm>
          <a:prstGeom prst="rect">
            <a:avLst/>
          </a:prstGeom>
          <a:solidFill>
            <a:srgbClr val="e98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f(x)= 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3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7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000"/>
                            </p:stCondLst>
                            <p:childTnLst>
                              <p:par>
                                <p:cTn id="3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N LEKCJ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e48b6"/>
                </a:solidFill>
                <a:latin typeface="Verdana"/>
              </a:rPr>
              <a:t>Wprowadzen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e48b6"/>
                </a:solidFill>
                <a:latin typeface="Verdana"/>
              </a:rPr>
              <a:t>Definicja funkcj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e48b6"/>
                </a:solidFill>
                <a:latin typeface="Verdana"/>
              </a:rPr>
              <a:t>Przyporządkowanie funkcyj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e48b6"/>
                </a:solidFill>
                <a:latin typeface="Verdana"/>
              </a:rPr>
              <a:t>Dziedzina i zbiór wartości funkcj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e48b6"/>
                </a:solidFill>
                <a:latin typeface="Verdana"/>
              </a:rPr>
              <a:t>Przykłady i kontrprzykłady funkcj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e48b6"/>
                </a:solidFill>
                <a:latin typeface="Verdana"/>
              </a:rPr>
              <a:t>Sposoby określania funkcj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e48b6"/>
                </a:solidFill>
                <a:latin typeface="Verdana"/>
              </a:rPr>
              <a:t>Wykres funkcj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e48b6"/>
                </a:solidFill>
                <a:latin typeface="Verdana"/>
              </a:rPr>
              <a:t>Podsumowanie lekcj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3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3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3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3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3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3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3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osoby określania funkcji.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2491920"/>
            <a:ext cx="8001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kreślenia słownego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fu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belki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agramu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ykresu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ematycznego wzor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184464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8f17"/>
                </a:solidFill>
                <a:latin typeface="Verdana"/>
              </a:rPr>
              <a:t>Funkcję można określić za pomoc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4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98f17"/>
                </a:solidFill>
                <a:latin typeface="Verdana"/>
              </a:rPr>
              <a:t>Ćwiczeni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71640" y="2017440"/>
            <a:ext cx="5400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 danych zbiorach określ funkcję, podaj jej dziedzinę i zbiór wartoś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ykonaj wykres tej funkcj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=  { 1, 3, -3, 4, -2, -1 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 =  { -1, 1,  3,  4,  0, 2 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2771640" y="4149720"/>
            <a:ext cx="720720" cy="136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71640" y="4221000"/>
            <a:ext cx="72072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987640" y="4221000"/>
            <a:ext cx="144000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058920" y="4292640"/>
            <a:ext cx="136836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708360" y="692280"/>
            <a:ext cx="4896000" cy="7671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daj przykład funkcji a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(-1) = 0  i  f(-2) 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03640" y="414972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56000" y="4508640"/>
            <a:ext cx="1871640" cy="13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4508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4149720"/>
            <a:ext cx="144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4149720"/>
            <a:ext cx="16574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076360" y="4221000"/>
            <a:ext cx="35892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987640" y="4149720"/>
            <a:ext cx="17985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40360" y="4508640"/>
            <a:ext cx="936360" cy="144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987280" y="4221000"/>
            <a:ext cx="1368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308720" y="299736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20"/>
                            </p:stCondLst>
                            <p:childTnLst>
                              <p:par>
                                <p:cTn id="4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3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2820"/>
                            </p:stCondLst>
                            <p:childTnLst>
                              <p:par>
                                <p:cTn id="4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2720"/>
                            </p:stCondLst>
                            <p:childTnLst>
                              <p:par>
                                <p:cTn id="4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3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820"/>
                            </p:stCondLst>
                            <p:childTnLst>
                              <p:par>
                                <p:cTn id="4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30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8320"/>
                            </p:stCondLst>
                            <p:childTnLst>
                              <p:par>
                                <p:cTn id="4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0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8f17"/>
                </a:solidFill>
                <a:latin typeface="Verdana"/>
              </a:rPr>
              <a:t>Wykres funkcji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8664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9900"/>
                </a:solidFill>
                <a:latin typeface="Verdana"/>
              </a:rPr>
              <a:t>Zbiór punktów o współrzędnych (x ;f</a:t>
            </a:r>
            <a:r>
              <a:rPr b="1" lang="pl-PL" sz="2000" spc="-1" strike="noStrike">
                <a:solidFill>
                  <a:srgbClr val="009900"/>
                </a:solidFill>
                <a:latin typeface="Verdana"/>
              </a:rPr>
              <a:t>(</a:t>
            </a:r>
            <a:r>
              <a:rPr b="0" lang="pl-PL" sz="3000" spc="-1" strike="noStrike">
                <a:solidFill>
                  <a:srgbClr val="009900"/>
                </a:solidFill>
                <a:latin typeface="Verdana"/>
              </a:rPr>
              <a:t>X</a:t>
            </a:r>
            <a:r>
              <a:rPr b="1" lang="pl-PL" sz="2000" spc="-1" strike="noStrike">
                <a:solidFill>
                  <a:srgbClr val="009900"/>
                </a:solidFill>
                <a:latin typeface="Verdana"/>
              </a:rPr>
              <a:t>)</a:t>
            </a:r>
            <a:r>
              <a:rPr b="0" lang="pl-PL" sz="3000" spc="-1" strike="noStrike">
                <a:solidFill>
                  <a:srgbClr val="009900"/>
                </a:solidFill>
                <a:latin typeface="Verdana"/>
              </a:rPr>
              <a:t>)</a:t>
            </a:r>
            <a:r>
              <a:rPr b="0" lang="pl-PL" sz="20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pl-PL" sz="3000" spc="-1" strike="noStrike">
                <a:solidFill>
                  <a:srgbClr val="009900"/>
                </a:solidFill>
                <a:latin typeface="Verdana"/>
              </a:rPr>
              <a:t> „spełniających”  funkcję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1116000" y="3141720"/>
            <a:ext cx="7201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59280" y="3500280"/>
            <a:ext cx="0" cy="280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11280" y="3068640"/>
            <a:ext cx="0" cy="32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5280" y="4653000"/>
            <a:ext cx="410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39440" y="299736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(1;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11280" y="3573360"/>
            <a:ext cx="1297080" cy="1079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01280" y="3429000"/>
            <a:ext cx="13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(3,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87280" y="3573360"/>
            <a:ext cx="1224000" cy="1079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4040" y="328464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(-3;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47640" y="4653000"/>
            <a:ext cx="863640" cy="431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58920" y="508464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(-2;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411280" y="4653000"/>
            <a:ext cx="1729080" cy="431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32760" y="5157720"/>
            <a:ext cx="141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(4;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11280" y="4653000"/>
            <a:ext cx="648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58200" y="4292640"/>
            <a:ext cx="14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(-1;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19840" y="40705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012000" y="2708280"/>
          <a:ext cx="2663640" cy="360036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oś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 flipH="1">
            <a:off x="197928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3141720"/>
            <a:ext cx="432000" cy="1511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887480" y="4365720"/>
            <a:ext cx="2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3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5500"/>
                            </p:stCondLst>
                            <p:childTnLst>
                              <p:par>
                                <p:cTn id="5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8f17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e98f17"/>
                </a:solidFill>
                <a:latin typeface="Verdana"/>
              </a:rPr>
              <a:t>Stan zapasów magazynowych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-324000" y="2060640"/>
          <a:ext cx="8820360" cy="430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2060640"/>
                    <a:ext cx="882036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300"/>
                            </p:stCondLst>
                            <p:childTnLst>
                              <p:par>
                                <p:cTn id="5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9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3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662c80"/>
                </a:solidFill>
                <a:latin typeface="Verdana"/>
              </a:rPr>
              <a:t>Ilość litrów benzyny w baku samochodu w ciągu tygodnia bez dodatkowego tankowani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123640" y="1628640"/>
            <a:ext cx="453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zużycie paliw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/>
          <p:nvPr/>
        </p:nvSpPr>
        <p:spPr>
          <a:xfrm>
            <a:off x="1403280" y="5373720"/>
            <a:ext cx="684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692360" y="213372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35640" y="5484960"/>
            <a:ext cx="161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lość d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631800" y="4075200"/>
            <a:ext cx="18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lość litr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92360" y="3716280"/>
            <a:ext cx="934920" cy="1657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27280" y="3716280"/>
            <a:ext cx="936720" cy="1657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64000" y="4221000"/>
            <a:ext cx="936720" cy="1152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95640" y="4581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00720" y="4508640"/>
            <a:ext cx="934920" cy="865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35640" y="4508640"/>
            <a:ext cx="936720" cy="865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72360" y="4508640"/>
            <a:ext cx="863640" cy="865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236000" y="5013360"/>
            <a:ext cx="86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92360" y="2852640"/>
            <a:ext cx="93492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27280" y="371628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64000" y="3716280"/>
            <a:ext cx="93672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00720" y="4292640"/>
            <a:ext cx="93492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35640" y="450864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72360" y="4508640"/>
            <a:ext cx="863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36000" y="4508640"/>
            <a:ext cx="86508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7596360" y="184464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1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11280" y="2157480"/>
          <a:ext cx="8208720" cy="393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157480"/>
                    <a:ext cx="8208720" cy="39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539640" y="54936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8f17"/>
                </a:solidFill>
                <a:latin typeface="Tahoma"/>
              </a:rPr>
              <a:t>Zmiany kursu dolara w styczniu 2003 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1557360"/>
            <a:ext cx="8172360" cy="76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mienność kursu dolara: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                       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*rośnie, 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*stały,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*rośnie,       </a:t>
            </a: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*kurs male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3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0"/>
                            </p:stCondLst>
                            <p:childTnLst>
                              <p:par>
                                <p:cTn id="6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1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Łączna ilość opanowanych słówek  z języka angielskiego przez ucznia klasy I LP w czasie kolejnych 8 lekcj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98f17"/>
                </a:solidFill>
                <a:latin typeface="Verdana"/>
              </a:rPr>
              <a:t>             </a:t>
            </a:r>
            <a:r>
              <a:rPr b="1" lang="en-US" sz="3200" spc="-1" strike="noStrike">
                <a:solidFill>
                  <a:srgbClr val="e98f17"/>
                </a:solidFill>
                <a:latin typeface="Verdana"/>
              </a:rPr>
              <a:t>Wykres funkc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403280" y="5373720"/>
            <a:ext cx="684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35280" y="2707920"/>
            <a:ext cx="0" cy="30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35280" y="5373720"/>
            <a:ext cx="72072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556000" y="5084280"/>
            <a:ext cx="720720" cy="28908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276720" y="4723920"/>
            <a:ext cx="863640" cy="36036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40360" y="4724280"/>
            <a:ext cx="86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03640" y="4724280"/>
            <a:ext cx="93672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940360" y="3789000"/>
            <a:ext cx="647640" cy="93492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588000" y="3357360"/>
            <a:ext cx="936720" cy="4316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7524720" y="3141720"/>
            <a:ext cx="934920" cy="2160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87680" y="5556240"/>
            <a:ext cx="19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umer lekc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594360" y="3805200"/>
            <a:ext cx="198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lość  słów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400"/>
                            </p:stCondLst>
                            <p:childTnLst>
                              <p:par>
                                <p:cTn id="6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400"/>
                            </p:stCondLst>
                            <p:childTnLst>
                              <p:par>
                                <p:cTn id="6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9400"/>
                            </p:stCondLst>
                            <p:childTnLst>
                              <p:par>
                                <p:cTn id="6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24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4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84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14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44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74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Na rysunku przedstawiono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ewne pojęcie matematycz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116000" y="2166840"/>
          <a:ext cx="7272360" cy="361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166840"/>
                    <a:ext cx="7272360" cy="3616560"/>
                  </a:xfrm>
                  <a:prstGeom prst="rect">
                    <a:avLst/>
                  </a:prstGeom>
                  <a:ln w="76320">
                    <a:solidFill>
                      <a:srgbClr val="8395d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3995640" y="530064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Jakie to pojęc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4200"/>
                            </p:stCondLst>
                            <p:childTnLst>
                              <p:par>
                                <p:cTn id="7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akończenie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98f17"/>
                </a:solidFill>
                <a:latin typeface="Verdana"/>
              </a:rPr>
              <a:t>On już to wie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 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4643280" y="2225520"/>
            <a:ext cx="4500720" cy="32911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5832360" cy="34322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7596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5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wheel spokes="8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4716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3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7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000"/>
                            </p:stCondLst>
                            <p:childTnLst>
                              <p:par>
                                <p:cTn id="7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3" dur="3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7000"/>
                            </p:stCondLst>
                            <p:childTnLst>
                              <p:par>
                                <p:cTn id="7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6" dur="471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3366"/>
                </a:solidFill>
                <a:latin typeface="Bradley Hand ITC"/>
              </a:rPr>
              <a:t>I to by było na tyle!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"/>
          <p:cNvSpPr/>
          <p:nvPr/>
        </p:nvSpPr>
        <p:spPr>
          <a:xfrm>
            <a:off x="2627280" y="5013360"/>
            <a:ext cx="61214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radley Hand ITC"/>
              </a:rPr>
              <a:t>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Bradley Hand ITC"/>
              </a:rPr>
              <a:t>Opracowa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radley Hand ITC"/>
              </a:rPr>
              <a:t>Halina Graczyk-Tomicze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radley Hand ITC"/>
              </a:rPr>
              <a:t>2 lutego 2003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98f17"/>
                </a:solidFill>
                <a:latin typeface="Verdana"/>
              </a:rPr>
              <a:t>Bankowy chaos.  - Sytuacja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8200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Żaden bank nie może dobrze działać bez dobrej bazy danych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 takiej bazie każdy klient banku musi być opisany identyfikatorem, aby można było mu jednoznacznie przypisać operacje finansowe, które wykonuje. </a:t>
            </a:r>
            <a:r>
              <a:rPr b="0" lang="en-US" sz="3600" spc="-1" strike="noStrike">
                <a:solidFill>
                  <a:srgbClr val="cc0000"/>
                </a:solidFill>
                <a:latin typeface="Verdana"/>
              </a:rPr>
              <a:t>Co by się działo, gdyby dwie osoby miały ten sam identyfikator?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rach pomyśleć!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6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98f17"/>
                </a:solidFill>
                <a:latin typeface="Verdana"/>
              </a:rPr>
              <a:t>Bankowy chaos.  - Sytuacja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601640"/>
            <a:ext cx="86756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obnie każda kwota wpływająca do banku lub wychodząca z niego musi być </a:t>
            </a:r>
            <a:r>
              <a:rPr b="0" lang="en-US" sz="3600" spc="-1" strike="noStrike">
                <a:solidFill>
                  <a:srgbClr val="cc0000"/>
                </a:solidFill>
                <a:latin typeface="Verdana"/>
              </a:rPr>
              <a:t>przypisana jednemu klientowi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 Jak by wyglądał bank, który otrzymaną kwotę „rozmnażałyby" na kilka rożnych kont albo pobierał z jednego tytułu pieniądze od kilku klientów? W takiej sytuacjach nie może być żadnej niejednoznaczności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e98f17"/>
                </a:solidFill>
                <a:latin typeface="Verdana"/>
              </a:rPr>
              <a:t>Skutki chaosu bankowego.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3095640" cy="270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859280" y="2565360"/>
            <a:ext cx="3097440" cy="2828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4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98f17"/>
                </a:solidFill>
                <a:latin typeface="Verdana"/>
              </a:rPr>
              <a:t>Porządkujemy system bankow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ośród wielu przyporządkowań między elementami zbiorów wyróżnia się w matematyce przyporządkowanie funkcyjn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zy potrafisz określić, jakie przyporządkowanie jest przyporządkowaniem funkcyjnym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7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8f17"/>
                </a:solidFill>
                <a:latin typeface="Verdana"/>
              </a:rPr>
              <a:t>KOMU PIENIĄDZE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11280" y="1916280"/>
          <a:ext cx="3876840" cy="172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1916280"/>
                    <a:ext cx="3876840" cy="17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Jakie funkcje widzisz w podanym wyżej opisie funkcjonowania banku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98f17"/>
                </a:solidFill>
                <a:latin typeface="Verdana"/>
              </a:rPr>
              <a:t>Spróbuj je omówić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948360" y="476280"/>
            <a:ext cx="1543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7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6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9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31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32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3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FINICJA FUNKCJI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żeli </a:t>
            </a:r>
            <a:r>
              <a:rPr b="1" lang="en-US" sz="3000" spc="-1" strike="noStrike">
                <a:solidFill>
                  <a:srgbClr val="e98f17"/>
                </a:solidFill>
                <a:latin typeface="Verdana"/>
              </a:rPr>
              <a:t>każdem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elementowi jednego zbioru przyporządkujemy </a:t>
            </a:r>
            <a:r>
              <a:rPr b="1" lang="en-US" sz="3000" spc="-1" strike="noStrike">
                <a:solidFill>
                  <a:srgbClr val="e98f17"/>
                </a:solidFill>
                <a:latin typeface="Verdana"/>
              </a:rPr>
              <a:t>dokładni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den element drugiego zbioru to takie przyporządkowanie nazywamy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funkcją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zyporządkowanie funkcyjne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205000"/>
            <a:ext cx="7777080" cy="58140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=                                      y =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2421000"/>
            <a:ext cx="7308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220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2349360"/>
            <a:ext cx="35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2492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5084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3357720"/>
            <a:ext cx="2232000" cy="2879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55840" y="398772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141720"/>
            <a:ext cx="3384720" cy="3166920"/>
          </a:xfrm>
          <a:prstGeom prst="ellipse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205000"/>
            <a:ext cx="1439640" cy="5763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5920" y="3382920"/>
            <a:ext cx="134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4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0400" y="417348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78800" y="3886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26440" y="5110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21720" y="474984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90080" y="3165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10200" y="414972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98520" y="342900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87320" y="414972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79520" y="39574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23840" y="5038560"/>
            <a:ext cx="12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4176720" cy="268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740720" y="2205000"/>
            <a:ext cx="1008000" cy="57636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t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0200" y="2835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99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0:54:36Z</dcterms:created>
  <dc:creator>Henryk Tomiczek</dc:creator>
  <dc:description/>
  <dc:language>en-US</dc:language>
  <cp:lastModifiedBy>Henryk Tomiczek</cp:lastModifiedBy>
  <dcterms:modified xsi:type="dcterms:W3CDTF">2003-02-21T21:11:55Z</dcterms:modified>
  <cp:revision>78</cp:revision>
  <dc:subject/>
  <dc:title>Pojęcie potęgi</dc:title>
</cp:coreProperties>
</file>